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71C-3A56-4690-9D94-156868AC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157-FAEA-488B-B45A-39B913A6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011-1A7C-4D11-BEF5-47D44D6B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A7A6-FE0F-48FD-AC90-8C7498D2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C2D5-E7E8-44DB-A829-C6683149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331E-8137-49CE-9845-F496A94D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D386-86F5-4B7A-A483-FB0C4A08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36F0-EB6D-4448-8E16-C8F1F02C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FCB4-9C7D-4AE5-94DA-48C9E130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0599-B855-44ED-8CA8-103ABD12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D4CF-10F7-43C1-8061-868CC5E8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4D4-D823-4B19-93FE-E17BC80D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B647-5CDC-4090-B2E3-AC750491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E373-9CE3-4B10-9EFB-A3C0B03B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721A-0491-4E3D-9017-7986F304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13EF-AEDE-4023-8C78-38964A0F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4F7F-4F85-44FE-A501-19860F53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5F4EA-E01A-4C88-9930-1B712627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BEE0-93AD-4B7D-BD04-BA24333C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DBCCE-C0BC-4BB4-9AFD-1E1CDE17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A53EE-4DAF-4037-970B-4A99E6E1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7F665-03AB-43B9-B3E4-A1142E13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672-AC95-48CE-9D66-306DAB49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3D40B-1F29-400B-97F3-B05F3206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F8C48-FE55-4BD9-B5F0-31DE26B0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E89CC-94D8-4AA2-84C2-28F67863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CF1E1-C836-4B8A-8F84-53166A91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7EEC4-954C-4D00-8F84-295E754A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15CCC-E83F-42F5-A243-8E45E10B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A2D85-4B25-4DE3-A225-59FB00C0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AF648-D6E3-4800-BE5E-E1CB7948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602E7-EE7C-4156-A83F-A391DABE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66E9C-77AD-4AB9-BC7C-CA29CF7C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32C-B254-4703-B218-1BD428CD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2022A-FB18-43D2-90FF-C290D981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03C6A-0D7E-4F37-B631-FD6D5881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8F8D8-0328-42AC-8CE3-76850B02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21670-9F77-4EB9-9309-C0274595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66A94-4A02-4A5D-B2FD-FC40FC5D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31BC3-FE8C-4C3A-A691-1780A378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B2CC5-3E91-43F8-B044-EB4ECE10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4E247-A27C-495B-ACC2-7201B118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42718-6A97-451C-97C4-7F0F3DD5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FB2-9765-4132-860F-54E7C642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0C8C-B8CF-49AF-9908-F2655A94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3F2-B367-4EAE-9B47-FA9AED5F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51B-9E5A-4409-B02F-321612FC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F3B3-478E-42AE-A0C6-562F6ABD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3EBD-BEBC-4336-B22F-336F51E35BC3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18F8-AE3F-47DC-A175-5C748F3CB532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C01A-EDC2-4F27-9EB4-605A671E14BA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7EB4-E5E0-4602-BB87-16602A7715AD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150480"/>
            <a:ext cx="9718560" cy="4157640"/>
          </a:xfrm>
          <a:prstGeom prst="rect">
            <a:avLst/>
          </a:prstGeom>
          <a:noFill/>
          <a:ln w="9360">
            <a:solidFill>
              <a:srgbClr val="90c226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       </a:t>
            </a: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Окружающий мир</a:t>
            </a:r>
            <a:br>
              <a:rPr sz="6000"/>
            </a:b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     «Кто нас лечит»?</a:t>
            </a:r>
            <a:br>
              <a:rPr sz="6000"/>
            </a:b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Тема недели: 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«Мир профессий»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(с 13.04 по 17.0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Цель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92040" y="1890360"/>
            <a:ext cx="79390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знать больше о профессий врач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45960" y="-360"/>
            <a:ext cx="942948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000" spc="-1" strike="noStrike">
                <a:solidFill>
                  <a:srgbClr val="90c226"/>
                </a:solidFill>
                <a:latin typeface="Trebuchet MS"/>
              </a:rPr>
              <a:t>«Доктор Айболит»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20760" y="1770120"/>
            <a:ext cx="52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годня вам предлагаем прочитать  сказку: Корнея Чуковского «Доктор Айболит». Так же вы можете просмотреть видео сказ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5" descr="1017815927.jpg"/>
          <p:cNvPicPr/>
          <p:nvPr/>
        </p:nvPicPr>
        <p:blipFill>
          <a:blip r:embed="rId1"/>
          <a:stretch/>
        </p:blipFill>
        <p:spPr>
          <a:xfrm>
            <a:off x="7515360" y="1246320"/>
            <a:ext cx="3743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02920" y="19368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сле прочтения или просмотра задать ребенку следующие вопрос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 называется профессия «Доктора Айболита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ля чего ему нужен чемоданчик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 находиться в этом чемоданчике предметы по картинке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играть в игру:«Айболит проверяет здоровье ребят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Стрелка вниз 9"/>
          <p:cNvSpPr/>
          <p:nvPr/>
        </p:nvSpPr>
        <p:spPr>
          <a:xfrm>
            <a:off x="7280280" y="133020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10" descr="doctor.png"/>
          <p:cNvPicPr/>
          <p:nvPr/>
        </p:nvPicPr>
        <p:blipFill>
          <a:blip r:embed="rId1"/>
          <a:stretch/>
        </p:blipFill>
        <p:spPr>
          <a:xfrm>
            <a:off x="7505640" y="1346040"/>
            <a:ext cx="489276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2560" y="2028960"/>
            <a:ext cx="4335120" cy="42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Прямоугольник 2"/>
          <p:cNvSpPr/>
          <p:nvPr/>
        </p:nvSpPr>
        <p:spPr>
          <a:xfrm flipV="1">
            <a:off x="325440" y="1602360"/>
            <a:ext cx="4021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Содержимое 11" descr="1026514629.jpg"/>
          <p:cNvPicPr/>
          <p:nvPr/>
        </p:nvPicPr>
        <p:blipFill>
          <a:blip r:embed="rId1"/>
          <a:stretch/>
        </p:blipFill>
        <p:spPr>
          <a:xfrm>
            <a:off x="450720" y="272880"/>
            <a:ext cx="96552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Спасибо за внимание!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31T01:25:42Z</dcterms:created>
  <dc:creator>HP!</dc:creator>
  <dc:description/>
  <dc:language>en-US</dc:language>
  <cp:lastModifiedBy>USER</cp:lastModifiedBy>
  <dcterms:modified xsi:type="dcterms:W3CDTF">2020-04-10T12:11:53Z</dcterms:modified>
  <cp:revision>56</cp:revision>
  <dc:subject/>
  <dc:title>Фотоальбом</dc:title>
</cp:coreProperties>
</file>