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C47-B53E-4D85-8F56-649D5FB9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298-7EAA-40C9-A800-067D7EB5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4B7D-B766-4539-9156-7C4C453F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B586-BDC2-4540-AD74-34198224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BAD9-64A4-4A89-8D24-5F6B9226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20AC-4EF9-41FF-BF8D-AD3F59DE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5CF7-532D-4BB3-B841-85B5393D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3F90-FAF8-477E-AC8A-7F8DEFDB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92C5-88B2-4074-B81B-1584C4E7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DFC5-0C40-483F-857F-19D0ADCB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80A6-C7BE-4EA9-B560-B36D447A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50D-5DFF-42EE-ABBD-DD85D8EE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D0A0-CBF8-4A0E-A95B-B50AAA82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0E20-9E8B-4084-8A99-D96E9BBF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6D7E-6DC9-432B-B2E0-680B5E52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31B7-7542-44C8-BF78-3D9D1CBD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0FF8-BC20-42B6-8AD4-BA2FD8B0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189D6-06A8-4786-A796-0279478E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050AC-A6C5-4A1E-8C96-6AE087D1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3A24F-31FF-47FC-BDB0-33F83803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95EE9-7A8F-4794-9175-7306972C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6B02F-DCD4-44AF-BAC0-BA1B4311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4DC1-EE7F-4599-B16B-CF430676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AD8F1-8520-4ECE-95BB-4CE5A0F9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B3B40-0E6D-4A8D-BCCE-C0839A89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61EE7-4016-4FE4-A15D-DEF15A4E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7C496-DAF3-45C2-A100-AC2F2916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1CAAE-4941-48DF-AAEA-5A6CD34A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76EC1-201A-4F41-9A5F-C5B75B2F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9CC58-261E-4B58-83C2-1609A8B1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1F728-DCB0-4F2D-8FD4-2AB3DA06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D94CF-4856-44E7-A019-8CE933DE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297A2-5EB1-41BC-9EB0-E1F3FCA3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60ED-6A31-49D8-B334-09E0588B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609CF-936E-45DC-9852-8F1E6590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BD97E-6305-43AB-8C54-7943B8AF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5F1A4-E88E-4281-B9A3-C215FAA8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371F0-42AF-4053-BA31-FF7F9E25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56B4A-C37E-4695-97B0-D089D9A1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0B791-1BA1-4A74-92C7-1B0AC5AB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301AF-857F-41EF-95A2-C7E18D9B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882B1-E2EE-454D-B0DA-E7BDF7A0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46D37-EDD4-4445-8071-4FE631BF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9B82-BAD8-4933-A777-C87262D4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F85-5141-40F4-9B15-B96EA46A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6A76-4FFA-499F-A027-1A4FFE2F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FBD-1DB0-4EE9-AD8C-9ABB872B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B28-9B1B-4BDD-BEFC-2BAD2EC0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6960-61C8-4008-90E3-0ED89F9DCE24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4AE2-1D70-4485-AF70-76FA57FB5AD4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E6AE-4808-4DFD-8AD4-33F58BE1DF56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EAB5-2777-47BA-A566-5CFFBE46F754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150480"/>
            <a:ext cx="9718560" cy="4157640"/>
          </a:xfrm>
          <a:prstGeom prst="rect">
            <a:avLst/>
          </a:prstGeom>
          <a:noFill/>
          <a:ln w="9360">
            <a:solidFill>
              <a:srgbClr val="90c226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        </a:t>
            </a: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Окружающий мир</a:t>
            </a:r>
            <a:br>
              <a:rPr sz="6000"/>
            </a:b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      «Кто нас лечит»?</a:t>
            </a:r>
            <a:br>
              <a:rPr sz="6000"/>
            </a:b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Тема недели: </a:t>
            </a:r>
            <a:br>
              <a:rPr sz="2000"/>
            </a:b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«Мир профессий»</a:t>
            </a:r>
            <a:br>
              <a:rPr sz="2000"/>
            </a:b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(с 13.04 по 17.04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Цель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92040" y="1890360"/>
            <a:ext cx="79390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знать больше о профессий врач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45960" y="-360"/>
            <a:ext cx="942948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6000" spc="-1" strike="noStrike">
                <a:solidFill>
                  <a:srgbClr val="90c226"/>
                </a:solidFill>
                <a:latin typeface="Trebuchet MS"/>
              </a:rPr>
              <a:t>«Доктор Айболит»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320760" y="1770120"/>
            <a:ext cx="52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годня вам предлагаем прочитать  сказку: Корнея Чуковского «Доктор Айболит». Так же вы можете просмотреть видео сказ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5" descr="1017815927.jpg"/>
          <p:cNvPicPr/>
          <p:nvPr/>
        </p:nvPicPr>
        <p:blipFill>
          <a:blip r:embed="rId1"/>
          <a:stretch/>
        </p:blipFill>
        <p:spPr>
          <a:xfrm>
            <a:off x="7515360" y="1246320"/>
            <a:ext cx="37432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02920" y="19368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сле прочтения или просмотра задать ребенку следующие вопрос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 называется профессия «Доктора Айболита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ля чего ему нужен чемоданчик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о находиться в этом чемоданчике предметы по картинке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играть в игру:«Айболит проверяет здоровье ребят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Стрелка вниз 9"/>
          <p:cNvSpPr/>
          <p:nvPr/>
        </p:nvSpPr>
        <p:spPr>
          <a:xfrm>
            <a:off x="7280280" y="133020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10" descr="doctor.png"/>
          <p:cNvPicPr/>
          <p:nvPr/>
        </p:nvPicPr>
        <p:blipFill>
          <a:blip r:embed="rId1"/>
          <a:stretch/>
        </p:blipFill>
        <p:spPr>
          <a:xfrm>
            <a:off x="7505640" y="1346040"/>
            <a:ext cx="489276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2560" y="2028960"/>
            <a:ext cx="4335120" cy="42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Прямоугольник 2"/>
          <p:cNvSpPr/>
          <p:nvPr/>
        </p:nvSpPr>
        <p:spPr>
          <a:xfrm flipV="1">
            <a:off x="325440" y="1602360"/>
            <a:ext cx="4021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Содержимое 11" descr="1026514629.jpg"/>
          <p:cNvPicPr/>
          <p:nvPr/>
        </p:nvPicPr>
        <p:blipFill>
          <a:blip r:embed="rId1"/>
          <a:stretch/>
        </p:blipFill>
        <p:spPr>
          <a:xfrm>
            <a:off x="450720" y="272880"/>
            <a:ext cx="96552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Спасибо за внимание!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31T01:25:42Z</dcterms:created>
  <dc:creator>HP!</dc:creator>
  <dc:description/>
  <dc:language>en-US</dc:language>
  <cp:lastModifiedBy>USER</cp:lastModifiedBy>
  <dcterms:modified xsi:type="dcterms:W3CDTF">2020-04-10T12:11:53Z</dcterms:modified>
  <cp:revision>56</cp:revision>
  <dc:subject/>
  <dc:title>Фотоальбом</dc:title>
</cp:coreProperties>
</file>