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83C-E08A-468F-8EC8-F694A48E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E65-6344-4492-893A-6807901F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0E0-4CC6-49CE-AAAC-2D82EC4A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D05-49E2-402B-8CDF-41AFC903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842C-33A6-409B-A58E-DB66E2D9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C581-9557-44D3-9E6A-7E53E20A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7F6A-5AA0-4CB4-812D-07F10CEA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1E6F-5FF3-4170-AC77-2AC6E3A5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73BF-8109-421B-A468-EADBB5C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61DC-9AFA-4EBF-AA14-1A2CB54D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6FE0-9622-4AD4-80A5-D452A7C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779-94CD-4F13-978A-E106A159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37B2-BBF6-4594-95ED-A3DADBC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0B7F-EA2E-449E-B3FF-693A347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50AE-09D9-4E7A-8D7D-A305506A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38E4-5936-4248-B34F-2A3B4492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B34F-C1AC-432E-A0A9-AA648A1A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C8F83-0A72-4A8E-BE7E-58BC4217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86B9E-8CAA-48FD-9E14-3B8A828E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69AA5-D7F0-4CDF-9EE2-EFDA689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A52A-1B2C-406A-961A-FDE051F9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F7151-1F58-4383-91BE-94339F8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CEF-886F-4850-BEBB-52EBAB19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54249-A2B7-49DA-A28B-3174C77C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AFEF1-DE26-4D51-872A-314D9EBE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239A-3011-4A4D-AE91-373148E7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A9AE1-E29E-4661-A2E6-4E851ED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0B04-7DD7-40E3-BA71-CE63C712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1E41F-20F1-4D3B-94A7-E0D771D5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0323-4A7D-4C2F-B488-B64F59EA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19FE9-28E9-4641-8623-EF367FCD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B0FE-2276-46DA-A20E-FEF10901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CE1E-52D1-46DB-B67D-07E37A3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DF7-B76C-4171-9882-97962610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83560-3F81-40CB-8181-847C9C0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1A090-E870-4BD2-AC20-5ECEEAE6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FBC0C-E426-45C5-A493-9B89209C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3877-7284-417E-A9B1-C6697A88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E55B0-F327-48AB-87BB-85CACE28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36E06-C0F3-4300-960A-1B6EBD63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F0FCA-07B4-4CB9-A96C-0A58AD0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0FFE5-6F7F-4731-A36A-CF9EB341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6685-653F-40BE-B95A-1496CE42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FD8-D916-48B8-9C44-9657B46F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EA4-935E-4EC9-8A54-B1B3F84D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A14-047B-406B-8FCD-684BC62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743-85BF-4C6A-A5C6-4387E904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BF0-A6C6-4187-BB4E-D729E2A4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7673-7FAA-491E-A943-777373C4627A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D24-6234-4D55-BE77-8E33EE95518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BC0-D861-4BBE-B5D0-21B0A5C96CC4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7C63-F75E-40EA-A8FA-555AF740B916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2120" y="150480"/>
            <a:ext cx="9718560" cy="415764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  </a:t>
            </a: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Окружающий мир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     «Кто нас лечит»?</a:t>
            </a:r>
            <a:br>
              <a:rPr sz="6000"/>
            </a:br>
            <a:r>
              <a:rPr b="0" i="1" lang="ru-RU" sz="60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Тема недели: 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«Мир профессий»</a:t>
            </a:r>
            <a:br>
              <a:rPr sz="2000"/>
            </a:br>
            <a:r>
              <a:rPr b="0" lang="ru-RU" sz="2000" spc="-1" strike="noStrike">
                <a:solidFill>
                  <a:srgbClr val="90c226"/>
                </a:solidFill>
                <a:latin typeface="Trebuchet MS"/>
              </a:rPr>
              <a:t>(с 13.04 по 17.04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2040" y="1890360"/>
            <a:ext cx="7939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Узнать больше о профессий врач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45960" y="-360"/>
            <a:ext cx="942948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6000" spc="-1" strike="noStrike">
                <a:solidFill>
                  <a:srgbClr val="90c226"/>
                </a:solidFill>
                <a:latin typeface="Trebuchet MS"/>
              </a:rPr>
              <a:t>«Доктор Айболит»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320760" y="1770120"/>
            <a:ext cx="52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егодня вам предлагаем прочитать  сказку: Корнея Чуковского «Доктор Айболит». Так же вы можете просмотреть видео сказ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5" descr="1017815927.jpg"/>
          <p:cNvPicPr/>
          <p:nvPr/>
        </p:nvPicPr>
        <p:blipFill>
          <a:blip r:embed="rId1"/>
          <a:stretch/>
        </p:blipFill>
        <p:spPr>
          <a:xfrm>
            <a:off x="7515360" y="124632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2920" y="19368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сле прочтения или просмотра задать ребенку следующие вопрос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Как называется профессия «Доктора Айболита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ля чего ему нужен чемоданчик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Что находиться в этом чемоданчике предметы по картинке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играть в игру:«Айболит проверяет здоровье ребят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Стрелка вниз 9"/>
          <p:cNvSpPr/>
          <p:nvPr/>
        </p:nvSpPr>
        <p:spPr>
          <a:xfrm>
            <a:off x="7280280" y="133020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10" descr="doctor.png"/>
          <p:cNvPicPr/>
          <p:nvPr/>
        </p:nvPicPr>
        <p:blipFill>
          <a:blip r:embed="rId1"/>
          <a:stretch/>
        </p:blipFill>
        <p:spPr>
          <a:xfrm>
            <a:off x="7505640" y="1346040"/>
            <a:ext cx="489276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2560" y="2028960"/>
            <a:ext cx="4335120" cy="42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Прямоугольник 2"/>
          <p:cNvSpPr/>
          <p:nvPr/>
        </p:nvSpPr>
        <p:spPr>
          <a:xfrm flipV="1">
            <a:off x="325440" y="1602360"/>
            <a:ext cx="4021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Содержимое 11" descr="1026514629.jpg"/>
          <p:cNvPicPr/>
          <p:nvPr/>
        </p:nvPicPr>
        <p:blipFill>
          <a:blip r:embed="rId1"/>
          <a:stretch/>
        </p:blipFill>
        <p:spPr>
          <a:xfrm>
            <a:off x="450720" y="272880"/>
            <a:ext cx="96552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Спасибо за внимание!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01:25:42Z</dcterms:created>
  <dc:creator>HP!</dc:creator>
  <dc:description/>
  <dc:language>en-US</dc:language>
  <cp:lastModifiedBy>USER</cp:lastModifiedBy>
  <dcterms:modified xsi:type="dcterms:W3CDTF">2020-04-10T12:11:53Z</dcterms:modified>
  <cp:revision>56</cp:revision>
  <dc:subject/>
  <dc:title>Фотоальбом</dc:title>
</cp:coreProperties>
</file>